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C24-648E-4CD4-9518-02602358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8CA-0804-4E74-A57E-004240B5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E77-1010-40A4-BEB9-54B76F6B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649-54FE-47A5-BDC6-3AB7C5D8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0C9E-3BA5-43EA-B14C-AD420F37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A3D5-8B38-4EB4-AE3B-478068A7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E41B-4D55-46DC-8182-9E9AC8B1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B57C-0E07-4C1F-9450-D5794F16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7E7A-776A-4FB1-8975-A78F24C8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976C-C1F6-4479-8573-4C39FBBA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CB0F-1AE6-4AC2-976F-1590040A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7AF-5DA4-44BA-8B63-F82B2ED8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137F-2962-474B-B069-1D0F937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EDCA-EFC0-4ABE-A834-36D43B1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DE84-29FF-4447-89B3-A5D45294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1967-693E-4EF8-B9FE-E4B0F238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AC84-7395-4C10-A894-D6261B4B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E54-5890-4AC2-8BBA-FC67A56D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3FF-CE84-4CE1-AECB-4228B5AD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037-E5FD-44DA-87A8-C7B27A7B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9E5-0F58-4002-9214-352C1E66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10F-7345-4FD9-9EDF-A3113DB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2B7-0242-4871-B419-A989C44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C10-E15C-4F28-9DDF-FC6F12C1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0699-0EFB-41D5-980A-4FDC8C8A670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BF83-F4E4-41B1-85D4-86592556A68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21320" y="3562200"/>
            <a:ext cx="1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0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8120" y="137160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inting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1623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nting occurs when the blood supply to the brain is cut off for a short period of time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who faints… loses consciousness for a period of tim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914400"/>
            <a:ext cx="637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What causes fainting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16002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acintosh HD:Users:student:Desktop:78654204.mp3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someone faints….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start laug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just stand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run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go out to 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efecc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cc"/>
                </a:solidFill>
                <a:latin typeface="Tahoma"/>
              </a:rPr>
              <a:t>Don’t start screami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pick up the vict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17880" y="199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543800" y="4038480"/>
            <a:ext cx="752400" cy="114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931000" y="4267080"/>
            <a:ext cx="1155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61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f someone faints.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se the victim’s leg 8 to 12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sen any tight clo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he victim’s breathing, keeping his or her airway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Macintosh HD:Users:student:Desktop:ChorusKickAddedLayers.wav" descr=""/>
          <p:cNvPicPr/>
          <p:nvPr/>
        </p:nvPicPr>
        <p:blipFill>
          <a:blip r:embed="rId2"/>
          <a:stretch/>
        </p:blipFill>
        <p:spPr>
          <a:xfrm>
            <a:off x="396252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86200" y="5029200"/>
            <a:ext cx="1147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76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victim does not regain consciousness… get medical hel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aware that fainting may signal a more serious conditio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2327400" cy="212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7621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o now what???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acintosh HD:Users:student:Desktop:Sound Effect - Winner 01.wav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133720" y="1828800"/>
            <a:ext cx="494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 for watching!!!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de by Laura Nol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36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3:15:41Z</dcterms:created>
  <dc:creator>Kraybill Campus LMS</dc:creator>
  <dc:description/>
  <dc:language>en-US</dc:language>
  <cp:lastModifiedBy>Kraybill Campus LMS</cp:lastModifiedBy>
  <dcterms:modified xsi:type="dcterms:W3CDTF">2011-05-26T16:02:03Z</dcterms:modified>
  <cp:revision>5</cp:revision>
  <dc:subject/>
  <dc:title>PowerPoint Presentation</dc:title>
</cp:coreProperties>
</file>